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192-5615-4ED9-9D8F-7C8FF5138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D1FA7-690C-4373-85DA-CE2EAA389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C5AD-1972-4398-9A9C-BFAF3DE2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F026-DB0F-447B-AF2D-56A3B74F5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1979-ECF5-4601-A6F9-C1AE91E9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EE79-DBB3-48F1-805A-988DF93E9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337-8C85-4DA7-86B8-4E3690A7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817-1989-4D17-AF1F-54300EF7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5B7-E868-4077-9618-483A102A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733-93AE-47E1-9414-549BF7EB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A93-B7B3-46A7-BBB0-FBC1A947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A91-55C9-46C3-8EB7-F55DC0EC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9D25-44C4-4191-9FFE-19F22704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887-68F8-456D-B192-2AD391FB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D51-267A-4C9F-A007-CC01270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1A74-7F61-4FEF-8BAD-58B1EF27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1F65-4397-469F-9AE5-B54FF1A1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F615-6222-458C-8931-48A6F11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DF14-83DF-4A71-B0A3-46B75CAF2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afd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br>
              <a:rPr sz="60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student will be able t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2382840"/>
            <a:ext cx="7815240" cy="188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late verbal expressions into math expressions and vice ver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971800" y="6248520"/>
            <a:ext cx="1843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expressions represen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 times a number decreased by 13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x +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x -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- 7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 + 7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AnswerNow"/>
          <p:cNvGrpSpPr/>
          <p:nvPr/>
        </p:nvGrpSpPr>
        <p:grpSpPr>
          <a:xfrm>
            <a:off x="228600" y="4559400"/>
            <a:ext cx="4444920" cy="698400"/>
            <a:chOff x="228600" y="4559400"/>
            <a:chExt cx="4444920" cy="698400"/>
          </a:xfrm>
        </p:grpSpPr>
        <p:sp>
          <p:nvSpPr>
            <p:cNvPr id="82" name="ANShape"/>
            <p:cNvSpPr/>
            <p:nvPr/>
          </p:nvSpPr>
          <p:spPr>
            <a:xfrm>
              <a:off x="2292120" y="45594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ANText"/>
            <p:cNvSpPr/>
            <p:nvPr/>
          </p:nvSpPr>
          <p:spPr>
            <a:xfrm>
              <a:off x="228600" y="47498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ne of the following expressions represents 28 less than three times a number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- 3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-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+ 3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+ 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AnswerNow"/>
          <p:cNvGrpSpPr/>
          <p:nvPr/>
        </p:nvGrpSpPr>
        <p:grpSpPr>
          <a:xfrm>
            <a:off x="228600" y="4559400"/>
            <a:ext cx="4444920" cy="698400"/>
            <a:chOff x="228600" y="4559400"/>
            <a:chExt cx="4444920" cy="698400"/>
          </a:xfrm>
        </p:grpSpPr>
        <p:sp>
          <p:nvSpPr>
            <p:cNvPr id="87" name="ANShape"/>
            <p:cNvSpPr/>
            <p:nvPr/>
          </p:nvSpPr>
          <p:spPr>
            <a:xfrm>
              <a:off x="2292120" y="45594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NText"/>
            <p:cNvSpPr/>
            <p:nvPr/>
          </p:nvSpPr>
          <p:spPr>
            <a:xfrm>
              <a:off x="228600" y="47498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CorShape1"/>
          <p:cNvSpPr/>
          <p:nvPr/>
        </p:nvSpPr>
        <p:spPr>
          <a:xfrm rot="10800000">
            <a:off x="223560" y="2327040"/>
            <a:ext cx="291960" cy="29196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35600"/>
            <a:ext cx="7848720" cy="20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a verbal expression for: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8 +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62120" y="4572000"/>
            <a:ext cx="7467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The ratio of 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m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to 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you have a different way of writing the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990720" y="25146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The sum of 8 and 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685800" y="3124080"/>
            <a:ext cx="8077320" cy="1400400"/>
            <a:chOff x="685800" y="3124080"/>
            <a:chExt cx="8077320" cy="1400400"/>
          </a:xfrm>
        </p:grpSpPr>
        <p:sp>
          <p:nvSpPr>
            <p:cNvPr id="94" name="Rectangle 3"/>
            <p:cNvSpPr/>
            <p:nvPr/>
          </p:nvSpPr>
          <p:spPr>
            <a:xfrm>
              <a:off x="685800" y="3124080"/>
              <a:ext cx="80773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2)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5" name="Object 6"/>
            <p:cNvGraphicFramePr/>
            <p:nvPr/>
          </p:nvGraphicFramePr>
          <p:xfrm>
            <a:off x="1538280" y="3147840"/>
            <a:ext cx="709560" cy="13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38280" y="3147840"/>
                      <a:ext cx="709560" cy="13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verbal expressions represents 2x + 9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AnswerNow"/>
          <p:cNvGrpSpPr/>
          <p:nvPr/>
        </p:nvGrpSpPr>
        <p:grpSpPr>
          <a:xfrm>
            <a:off x="228600" y="4800600"/>
            <a:ext cx="4444920" cy="698400"/>
            <a:chOff x="228600" y="4800600"/>
            <a:chExt cx="4444920" cy="698400"/>
          </a:xfrm>
        </p:grpSpPr>
        <p:sp>
          <p:nvSpPr>
            <p:cNvPr id="99" name="ANShape"/>
            <p:cNvSpPr/>
            <p:nvPr/>
          </p:nvSpPr>
          <p:spPr>
            <a:xfrm>
              <a:off x="2292120" y="48006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ANText"/>
            <p:cNvSpPr/>
            <p:nvPr/>
          </p:nvSpPr>
          <p:spPr>
            <a:xfrm>
              <a:off x="228600" y="49910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increased by twice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umber increased by 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ice a number decreased by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 less than twice a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rShape1"/>
          <p:cNvSpPr/>
          <p:nvPr/>
        </p:nvSpPr>
        <p:spPr>
          <a:xfrm rot="10800000">
            <a:off x="253800" y="17301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of the following expressions represents the sum of 16 and five times a numb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AnswerNow"/>
          <p:cNvGrpSpPr/>
          <p:nvPr/>
        </p:nvGrpSpPr>
        <p:grpSpPr>
          <a:xfrm>
            <a:off x="228600" y="4800600"/>
            <a:ext cx="4444920" cy="698400"/>
            <a:chOff x="228600" y="4800600"/>
            <a:chExt cx="4444920" cy="698400"/>
          </a:xfrm>
        </p:grpSpPr>
        <p:sp>
          <p:nvSpPr>
            <p:cNvPr id="105" name="ANShape"/>
            <p:cNvSpPr/>
            <p:nvPr/>
          </p:nvSpPr>
          <p:spPr>
            <a:xfrm>
              <a:off x="2292120" y="480060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ANText"/>
            <p:cNvSpPr/>
            <p:nvPr/>
          </p:nvSpPr>
          <p:spPr>
            <a:xfrm>
              <a:off x="228600" y="499104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CorShape1"/>
          <p:cNvSpPr/>
          <p:nvPr/>
        </p:nvSpPr>
        <p:spPr>
          <a:xfrm rot="10800000">
            <a:off x="223560" y="291132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x -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x +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+ 5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- 5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b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3 is called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exponen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pow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eans 10 • 10 •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1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looking at the expression 10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 10 is called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be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How is it said?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o the first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o the second power or </a:t>
            </a:r>
            <a:r>
              <a:rPr b="1" lang="en-US" sz="4000" spc="-1" strike="noStrike">
                <a:solidFill>
                  <a:srgbClr val="fd020f"/>
                </a:solidFill>
                <a:latin typeface="Times New Roman"/>
              </a:rPr>
              <a:t>two squa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o the third power or </a:t>
            </a:r>
            <a:r>
              <a:rPr b="1" lang="en-US" sz="4000" spc="-1" strike="noStrike">
                <a:solidFill>
                  <a:srgbClr val="fd020f"/>
                </a:solidFill>
                <a:latin typeface="Times New Roman"/>
              </a:rPr>
              <a:t>two cub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wo times n to the seventh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verbal expressions represents 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+ 2x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AnswerNow"/>
          <p:cNvGrpSpPr/>
          <p:nvPr/>
        </p:nvGrpSpPr>
        <p:grpSpPr>
          <a:xfrm>
            <a:off x="228600" y="5092560"/>
            <a:ext cx="4444920" cy="698400"/>
            <a:chOff x="228600" y="5092560"/>
            <a:chExt cx="4444920" cy="698400"/>
          </a:xfrm>
        </p:grpSpPr>
        <p:sp>
          <p:nvSpPr>
            <p:cNvPr id="115" name="ANShape"/>
            <p:cNvSpPr/>
            <p:nvPr/>
          </p:nvSpPr>
          <p:spPr>
            <a:xfrm>
              <a:off x="2292120" y="509256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ANText"/>
            <p:cNvSpPr/>
            <p:nvPr/>
          </p:nvSpPr>
          <p:spPr>
            <a:xfrm>
              <a:off x="228600" y="528300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CorShape1"/>
          <p:cNvSpPr/>
          <p:nvPr/>
        </p:nvSpPr>
        <p:spPr>
          <a:xfrm rot="10800000">
            <a:off x="253800" y="1730160"/>
            <a:ext cx="253800" cy="25380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a number squared and twice a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a number and twice th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ice a number less than the number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um of a number and twice the number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ich of the following expressions represents four less than the cube of a numb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AnswerNow"/>
          <p:cNvGrpSpPr/>
          <p:nvPr/>
        </p:nvGrpSpPr>
        <p:grpSpPr>
          <a:xfrm>
            <a:off x="228600" y="5092560"/>
            <a:ext cx="4444920" cy="698400"/>
            <a:chOff x="228600" y="5092560"/>
            <a:chExt cx="4444920" cy="698400"/>
          </a:xfrm>
        </p:grpSpPr>
        <p:sp>
          <p:nvSpPr>
            <p:cNvPr id="121" name="ANShape"/>
            <p:cNvSpPr/>
            <p:nvPr/>
          </p:nvSpPr>
          <p:spPr>
            <a:xfrm>
              <a:off x="2292120" y="5092560"/>
              <a:ext cx="317160" cy="317520"/>
            </a:xfrm>
            <a:prstGeom prst="smileyFace">
              <a:avLst>
                <a:gd name="adj" fmla="val 9282"/>
              </a:avLst>
            </a:prstGeom>
            <a:gradFill rotWithShape="0">
              <a:gsLst>
                <a:gs pos="0">
                  <a:srgbClr val="ffff00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255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ANText"/>
            <p:cNvSpPr/>
            <p:nvPr/>
          </p:nvSpPr>
          <p:spPr>
            <a:xfrm>
              <a:off x="228600" y="5283000"/>
              <a:ext cx="4444920" cy="507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–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– 3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x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rShape1"/>
          <p:cNvSpPr/>
          <p:nvPr/>
        </p:nvSpPr>
        <p:spPr>
          <a:xfrm rot="10800000">
            <a:off x="223560" y="3495600"/>
            <a:ext cx="291960" cy="29232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valuate.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496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2 • 2 =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2 • 2 •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020f"/>
                </a:solidFill>
                <a:latin typeface="Times New Roman"/>
              </a:rPr>
              <a:t>We can’t evaluate because we don’t know what n equals to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area of a rectangl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e0043"/>
                </a:solidFill>
                <a:latin typeface="Times New Roman"/>
              </a:rPr>
              <a:t>Length times Wid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the length is 3 meters and the width is 2 meters, what is the are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= 3 x 2 = 6 meter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, L and W are the </a:t>
            </a:r>
            <a:r>
              <a:rPr b="1" lang="en-US" sz="3600" spc="-1" strike="noStrike" u="sng">
                <a:solidFill>
                  <a:srgbClr val="6e0043"/>
                </a:solidFill>
                <a:uFillTx/>
                <a:latin typeface="Times New Roman"/>
              </a:rPr>
              <a:t>variabl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It is any letter that represents an unknown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3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he same as 5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each and find ou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= 3 • 3 • 3 • 3 • 3 = </a:t>
            </a:r>
            <a:r>
              <a:rPr b="0" lang="en-US" sz="4400" spc="-1" strike="noStrike">
                <a:solidFill>
                  <a:srgbClr val="fd020f"/>
                </a:solidFill>
                <a:latin typeface="Times New Roman"/>
              </a:rPr>
              <a:t>24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5 • 5 • 5 = </a:t>
            </a:r>
            <a:r>
              <a:rPr b="0" lang="en-US" sz="4400" spc="-1" strike="noStrike">
                <a:solidFill>
                  <a:srgbClr val="fd020f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020f"/>
                </a:solidFill>
                <a:latin typeface="Times New Roman"/>
              </a:rPr>
              <a:t>243 ≠ 125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not the sa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be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4400" spc="-1" strike="noStrike" u="sng">
                <a:solidFill>
                  <a:srgbClr val="fd020f"/>
                </a:solidFill>
                <a:uFillTx/>
                <a:latin typeface="Times New Roman"/>
              </a:rPr>
              <a:t>algebraic expression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in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 one or more numbers or variables,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 one or more arithmetic opera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 -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• 2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4038480" y="5181480"/>
          <a:ext cx="10670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181480"/>
                    <a:ext cx="10670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expressions, there are many different ways to write multipl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• 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(b)  or  (a)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)(b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x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re not going to use the multiplication symbol any more. Why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afd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vision, on the other hand, is written a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3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) x ÷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13"/>
          <p:cNvGraphicFramePr/>
          <p:nvPr/>
        </p:nvGraphicFramePr>
        <p:xfrm>
          <a:off x="3002040" y="2209680"/>
          <a:ext cx="579240" cy="14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2040" y="2209680"/>
                    <a:ext cx="579240" cy="14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oughout this year, you will hear many words that mean addition, subtraction, multiplication, and division.  Complete the table with as many as you know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Object 3"/>
          <p:cNvGraphicFramePr/>
          <p:nvPr/>
        </p:nvGraphicFramePr>
        <p:xfrm>
          <a:off x="996840" y="2975040"/>
          <a:ext cx="7259760" cy="446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2975040"/>
                    <a:ext cx="725976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a4b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Here are some phrases you may have listed. The terms with * are ones that are often used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1523880" y="2846520"/>
          <a:ext cx="6629400" cy="39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846520"/>
                    <a:ext cx="6629400" cy="39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3be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e an algebraic expression fo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ncreased by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6960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m 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+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7 times the produc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7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xt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  or  7(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)(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t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)  or 7 • 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x</a:t>
            </a:r>
            <a:r>
              <a:rPr b="1" lang="en-US" sz="4400" spc="-1" strike="noStrike">
                <a:solidFill>
                  <a:srgbClr val="fd020f"/>
                </a:solidFill>
                <a:latin typeface="Times New Roman"/>
              </a:rPr>
              <a:t> • </a:t>
            </a:r>
            <a:r>
              <a:rPr b="1" i="1" lang="en-US" sz="4400" spc="-1" strike="noStrike">
                <a:solidFill>
                  <a:srgbClr val="fd020f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6094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) 11 less than 4 times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576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4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- 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990720" y="23623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wo more than 6 times a numb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657600" y="3276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6</a:t>
            </a:r>
            <a:r>
              <a:rPr b="1" i="1" lang="en-US" sz="3600" spc="-1" strike="noStrike">
                <a:solidFill>
                  <a:srgbClr val="fd020f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fd020f"/>
                </a:solidFill>
                <a:latin typeface="Times New Roman"/>
              </a:rPr>
              <a:t> +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990720" y="4114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)  the quotient of a number and 1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4124160" y="4799160"/>
          <a:ext cx="6699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24160" y="4799160"/>
                    <a:ext cx="6699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0:41:22Z</dcterms:created>
  <dc:creator>Skip Tyler</dc:creator>
  <dc:description/>
  <dc:language>en-US</dc:language>
  <cp:lastModifiedBy>Guilford County Schools</cp:lastModifiedBy>
  <cp:lastPrinted>2011-11-29T13:38:30Z</cp:lastPrinted>
  <dcterms:modified xsi:type="dcterms:W3CDTF">2012-08-02T18:03:34Z</dcterms:modified>
  <cp:revision>29</cp:revision>
  <dc:subject/>
  <dc:title>Expressions</dc:title>
</cp:coreProperties>
</file>